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50FB-ADFF-4285-8E03-E2B47C386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4E85-35C1-46ED-875C-D85CF722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6EB5DF-955F-4467-A086-88D024BE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26B578-A3E5-459C-8873-E19BFA15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024001-1ECF-48C1-BD5B-A9B8B533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EB8029-962E-4C64-80E8-6C9D8CCA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9CBA83-E234-421F-A4EF-9364F7DA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B3DA36-13C7-4F2E-AA8D-83BFFEBB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2CBFA-9AF7-4B4B-8A41-5A186F5A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9C7427-9880-4201-8EE8-B2379C1F5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52B1D0-6CC9-42E4-9731-2DA4DB88E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9DE79A-ABEB-481B-900D-476F6F865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DA8E-A4D3-48AB-AB0A-69DAE89F4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BCE209-279B-4795-9E85-CEEF0435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525A16-D2A7-46C5-8CC4-3B2B710F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6E78BA-93D7-4D6A-9149-29162BCA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CF096C-D960-457E-99F6-7185BED1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35D6F4-8357-4629-99CA-CF2838E4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B015D2-93E7-48C9-9944-AA6189EA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D36AE3-128A-4807-A2D6-70767755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811911-3B94-4558-BF23-AACDB714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69CA09-1927-4A7C-864B-1C0EEC97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EA880A-6E36-4402-A6FA-65436486A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19B9-52E6-48AA-9F7F-919F4A7A7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F9ADA6-A761-4E6A-AA95-92EC0B76E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F2A3F0-BCCA-4D8D-83B4-ED2F182BB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97FF23-A136-4D7A-8810-BF7906F7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0FD98-80D3-4DBD-9E5C-0FAD6060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9AAE62-262B-49F0-BF9C-F8CAD682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61F74-21A5-4975-B6C8-AB55C602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4966F-6595-4B96-9EA5-A6557ABE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69F3AF-AD7C-4B15-BE9C-AF2586AF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6AA26-03B4-4EC4-BC30-EBB7F8FE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BD755-BFC7-428C-8957-9EDED11E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BCCFB-66AE-4504-AB61-4D15612CC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7A8576-0265-4658-B53E-660829A5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BBA13-91FF-42F2-92F5-C33F9E05E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4C37D-EA9D-4954-9ADE-455ECE4EE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65BA46-78E6-40D6-A745-DA372608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443172-50FB-4758-B0B3-47301234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448D7F-1AA3-417A-8B75-362628F1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B47568-6DA8-4443-8591-3E449B5F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BD7C8D-6670-4118-90B9-68B10AFB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C4C1D1-7D37-440B-A575-704E339D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DF2308-E973-4162-99B9-056883CC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A741-079D-4D19-98D3-F65050C3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18FC0B-95C4-41C9-9E99-041A6E8C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5C30A1-2E94-438D-92D1-53DC2576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C74E3A-7DB0-4978-8A39-8D1EB13C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7CF25A-B591-4189-A3E2-8260E884E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4BC13C-1091-4C0E-A06A-EF2648CFF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68A5FB-BA5A-4899-A25C-EFE3DD9E4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EC9FB4-17B9-4971-8413-F5E8F32A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88C348-BAA7-4371-B978-40C5110E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7162BF-D6C0-463B-999A-CBB3E771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B79A70-626C-4F36-B09A-389AE103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135E-F65E-49D0-B2C0-E27E6BCF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4970A6-1283-45AB-AFC1-F56E31C1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8C7950-BB14-40D3-83A3-E19DE61F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5D1AE2-1E89-4BF8-976D-4EADEBB0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F59F20-00D6-4825-A7ED-ED4DE3A4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D51CBB-7548-4803-8A9D-B40EE246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37499A-9ACD-45EC-BB14-EA1D073BC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43C418-13A0-42F1-902C-E818EA9D9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FAA8B2-04C1-435C-ACD2-D622E0432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86777C-5386-440B-AF6C-50174F97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F9C1B4-862F-417C-BD9E-439B7B71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AA09F-6322-4CDE-BA5A-7336B443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A8B591-397B-4B63-8ACD-F1740E44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B9C4F0-2B08-43B1-9DB9-287880EC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77E649-3832-4A54-803E-44726251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41CA03-4143-440A-881A-3928DC79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9D98F7-43F0-4D4F-B522-0F257857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94CD13-11B4-463F-80D9-666B656C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E4366E-2711-4B4C-9CCD-4D32108E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86290D-2CBE-4F28-B71A-04ACB6DD2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812A32-38C1-405E-BFD2-05E31FC4D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0AC005-1D3B-4D7C-BDEF-A9567E87A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1A40-A739-4A9C-B3CD-CB9CCBBB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248237-3CED-4D69-8E54-6F27218E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01F164-E543-46AF-ADE7-0B0920F2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65C8AE-4615-4621-B3C7-D85DB2AB5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1ED170-4DDD-4973-AADC-54802A1F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993F5D-DEA5-4C76-983E-C5106D06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D767C0-0786-412E-AC28-B3791215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451AD1-A007-41E6-B296-CDE44153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108B13-FD3B-48F2-9EA0-FD64F142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510176-0871-44C4-8ECD-25F7E374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465A6C-AC29-4AB9-B0CA-9B50EE4B2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CA0F1-BA87-4DAF-ADFD-BEFFC32F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40FF06-797F-4C42-A8F9-C4E73445F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B9B0D6-4F32-43EB-ADE0-CBAA4BCD6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065A70-C360-4018-8834-EE1AB6F8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7879C5-C052-4BEE-8B65-ED9DED83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3DA487-7B0E-46E9-87AB-E50AD09D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61630B-1B66-4829-AE33-2130F1EE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EC0D2D-248C-4743-8B94-DF98ADCF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3633D3-94E0-4555-B56C-CFAA6FA4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B19286-070E-4F57-8A06-8345834D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6A13D4-2F5A-4E84-B675-DFC0C62E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5A95-1B8F-490A-93B6-62D1A3F7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BCC283-AE9D-463F-90EB-3EEEC1B6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EC4B5C-7935-4455-B76F-C890A0D60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A05337-EF22-4443-A25C-0AA38CA2C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743658-BF7D-461F-80E4-CDB0CCDE0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2D9277-78F7-47E4-94BB-AA3A683D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87B3A9-A2EA-4F90-BAB4-3A8633C1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792700-8572-40FE-872D-926773A4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6CFB37-2154-45EC-9F60-0643FC51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F34202-C9AE-4B3C-A038-4F948950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D5B19B-06B9-4616-BEF6-DCE140E2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5ABD-6762-45A2-94F3-78680E4E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2866-3BF9-488D-A74E-D71C787D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650940-7E1D-46B4-AA0E-7A399E83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5623EE-2C08-406A-8E71-C91AC507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7F3B13-0300-4B80-816A-D3871D2F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DC2C81-A275-4696-8CD9-EA842E2A3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CD2824-BDF2-42F6-AE8D-9C810B927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01618A-4598-4152-9977-0B0104DD9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69AB1C-4D7F-4243-8C17-6F64A0E3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BEE779-06C7-4DDC-9310-BC52E43A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C872C4-521D-420D-B47F-CE6735F1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8A3373-D642-456A-B1F9-D9A1210D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C093-CD16-4271-8778-B88881FB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5579AC-8BA9-4F35-98A1-25A5E728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AF5861-CDEB-435F-AF09-3AA76AD5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9BED51-9BA9-49BC-A7F6-E879DA2C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6A245B-1CF3-4D80-A279-7EC282AF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E901B7-F076-43AE-A758-7BB72E21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FFE036-E02C-4A91-8ADF-F5BF30CC3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5B1031-729A-41FB-AB9C-F1B447187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236C7C-3E56-4E81-AC54-A48E73FDF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8D088D-D4CE-47B9-A216-852426CD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B25AB2-5F9F-4D33-9A31-A4938AB2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5184-E051-41E6-9105-F71551C7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A10CCF-76CA-4F67-917A-F6261613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5A322C-E4FA-48E2-ADE6-FC30B11B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C4379D-EEB5-4D7D-B3C5-5F039844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1EFB35-983A-4A4D-9DA3-C1B4CF7A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985A57-5641-400E-938A-D715D24C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0AC082-9666-49A4-BD2E-44EC19CD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2A7D3F-2911-49D1-8CB9-994E8A14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45751E-43C3-49DC-A88E-713164DFB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635F2F-6F75-47AA-B263-9D37989B4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25E0C3-313A-48B7-8018-30F2F8E22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4FA7-9558-44CD-ADCB-DB58A89B2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5773FB-E0E1-41DD-B202-20BF0F2A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84AA3B-4AB3-4078-8C2E-4F7EF2F2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49115F-2429-4BE9-BCB8-898D1130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F0EF14-F565-4AAC-BEC0-102B69EB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DF1BB8-5681-453B-919C-7B39BF9E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295EBC-3402-4E46-8C53-0729045B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8C0B36-4122-433C-AFA6-0BDF510B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865B80-D99D-4861-892E-58123319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7BA4B5-2B7F-4F10-AF9E-17159586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B4B19C-A2DB-4EDE-8E45-3E8DFBF26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7E53-077C-4560-8B87-C910A0E76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318B8A-C7F8-45F2-8264-F1FAEAC4F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F9AE4F-BA19-4AE6-9F4E-27AF8A429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5FC6B6-F08D-4CEC-B402-587B9156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AFF9E9-AAB1-4849-B45D-C4122A78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592F7D-350E-4502-8BC3-9E199757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851AA8-C9DE-4B1D-BE6B-58173060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45B66C-5373-4CB5-A610-F42A2D55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1C1E75-7D9B-4337-B9F6-DE080E62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3EE6BC-708F-4359-A48F-D4AC04C6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0F8AB1-D890-4371-ADDE-2CD5734A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6FF75-FF9C-47D4-B099-1B12EDF28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7DA3B4-8E7C-45FE-9792-F891F9E2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FD6D4E-6307-4251-8729-82A3C1D4A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255D27-B76D-4380-BF2A-06C5661B0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C6780-E3F1-42CF-B5DB-8BFEC616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E933A-7821-47E0-97C0-B86DED0E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53764-72FF-4CB3-A6F8-20F7F752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BA5EE-31A1-40E7-A770-FCE19040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0AEF-F9E0-4EB3-96B3-E254B20C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0E188-8E05-4487-8686-57F45AAD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FB33E-0BB4-4929-8C9E-D2FD77F6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6AA57-CCF1-4182-9568-5A47D9A0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5E81F-EFE6-4DAF-ACE3-29058D66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4E0B5-0F87-452C-8DF2-4A92B232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80BE5-7904-4723-A7A8-E6ED8410D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2F323-2A52-4195-B0BB-AA939715B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8DC22-2A52-4C0D-BD47-DD3B9EAA2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38B28-A0F3-40DD-ABE0-B619FED7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7CE35-E8EA-423E-AFFC-F95989E9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37FE-7DEF-4C43-910A-D040CE4F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879B5-A146-4875-A299-D2BA2679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C91F6-EE58-4A94-BA9D-7EBE210F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E8822-B730-467C-A71C-79D2583E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2025A-0F1D-48DC-9CCC-E3E3F01B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DE646-EA79-42BC-801E-4395C9DC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47D96-69AD-4711-87DF-3948EC8D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B0585-1CFF-416A-A082-FDFD23E4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D8923-EBB5-4B12-9551-4009C6688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CFF87-152F-4D94-8350-A91415573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A7022-A13B-4C1D-854C-D58C640F0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5E43-D560-4362-90A7-666870D3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04C2E-0458-4940-AD5E-F04D4C3D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3D20E-EB03-43F3-BC37-6E5B4CFD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F65D2-7B95-4F92-83F1-890930BE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072E3-6DA7-461D-B10F-06E7D208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C6E20-B6C4-4387-9DFB-24C0C202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BE406-CE87-4624-8612-073F2EDA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C0D28-9D78-4232-BA93-C739E76E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781BD-3B8F-4D03-842A-D1D4B0E9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E8960-7162-4707-AD35-01A2850A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64B18-5E1D-4E55-B851-F5F7CBE33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979A-521F-45C1-B652-963FCDC4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69B66-9278-4114-B357-D0B3581FE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A900A-820C-4291-9789-0175FF39B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EBA75-8F92-4231-A850-C8011716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16D52-BD11-4595-9512-B3479394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AA11C-1187-4C16-8A4F-C384BA8D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1C036-2AD1-47CA-9389-91B5AA8D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93C64-C45B-40BE-A615-4AD4756C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21876-EF07-43F6-A322-529F0291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739E1-195F-4549-A3AD-858F55D8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B53AB-BCDA-4E22-84D0-DDFA070E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DF58-FA95-42D8-9D4C-C995313A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6967A-4A37-4440-8671-5331ECE2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EAEE8-1FB7-4FB8-8882-8A1B57C7B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B6348-E84B-44C3-8EEF-1B223F070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5F935-199C-4625-BDAF-7B9A1D06A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A84D2-0791-4B03-BCC1-40B8FCA2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FA359-FC19-4FD3-86C4-DB758E4F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B2901-3A3A-43CF-9225-BDFA2E68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43F5F-366C-456F-B2FF-FD4CC946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ED12A-FD47-407D-A5BC-7931289B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7CC34-6274-4159-973B-978DECDD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6274-CE47-4646-A333-63757003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1B7F1-17EC-465E-9662-619D5C0E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27671-BED6-467F-AD78-E85A8BE0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74DD5-A785-4D2B-839A-4CB05B6C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14981-3DF0-4273-A9BE-5CF0990C1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D6DDA-966A-4643-97B8-390181001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2D489-E20B-41C4-8A6B-060B15C69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66C4B-0ABF-40AF-AE16-0EAFB823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AA347-10B3-4C15-9EB7-E6989675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23BBE-26EE-4D8D-8D4B-01874B45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24DDF-D5FB-49D4-ACA3-BD013602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9FD6-4E0B-4C17-82BE-60F439AD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7856D-3F60-4423-8B93-859AC383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C6899-5EF9-4C95-926C-061F8BD3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DCEFF-B9AE-44BB-AB59-BD780487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55017-57A1-431E-8F85-86A1E051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AA3C4-E813-41B8-ADA7-17EC2C08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38E6D-0442-438F-85F2-9F7E9A1C8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92443-962E-411B-941C-1AB208D8A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1239F7-0061-4D3B-8844-5CC96229A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1F1C6B-B5A9-435A-9B70-C7E7F4CD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8A960D-311A-4DF7-8623-0D438B00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3907-A685-407C-823B-398160BF89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FDF5-A3D3-4694-AD02-CED060FFEA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1F0B-7E89-4EE2-B230-E90535EDC7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C3E0-AFFC-4F29-BE31-4A12AFF919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F0FB-BF5B-4A5C-A049-21714E67BD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E0DC-796C-41C7-AC60-273CC5E906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735D-4A82-4904-889C-6C2D3F7323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0550-CC18-487C-B25E-86FD2A9366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FEC3-83AA-4C7A-BD27-13A634C658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52AD-1A8E-42CE-BECC-50BDD9C280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E026-7D48-4313-80EB-5066F4FDFF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D4F6-2B43-4782-94E2-7C90D65EB3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F485-DCB7-41DB-854A-0B2396BC48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9988-273B-4A4C-A651-C6C61F20AF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B6DD-8793-4BBA-81AA-0661B573DD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71D8-4320-4FFA-9FFE-E12EFBFCA3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F7D0-8778-43CE-8F5E-670D80684A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419A-E59D-4C35-807B-7EA7071B4B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48F6-6577-42E7-A06C-C042575B74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F545-C2C2-4BC1-8F49-E31A1BC6E4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0034-D7E9-4C15-884A-2825A44DCC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CED4-1E43-4F5C-ADA6-B69220D010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B01A-C095-4CEE-9E92-4BC87F9309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1374-1AD0-4423-A817-247C076A09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7FFB-D895-4966-BE10-183FD51059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B909-A18F-49FE-97B4-D52B51673E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43BA-EE7C-4231-8F13-00A2888724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8895-4A00-437F-8015-368B2D3A0A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1699-7569-4111-BF8A-42A307417D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207C-7BFE-47C5-9CA9-E26B5F318D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148C-7D44-47BF-85F9-C904D1D63B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8005-EB43-4EE2-91F2-FABEA76EB2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DEE7-6EDE-430F-B79C-05E5F47CE1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18AA-C66F-40C6-95FB-824DC3B826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CC8B-5E0B-41C6-9990-38A2CF9CE7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E1B3-A34B-46B1-8E23-EB66E4E334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AEBB-972D-407E-B96F-5FCCEC2714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25FB-90D5-4ACF-8813-44D306F16F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4689-345E-4D44-AF6F-A2AF0CCBE1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45D8-4431-453A-B408-940DF74F91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623880" y="2971800"/>
            <a:ext cx="78962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图片 69633" descr=""/>
          <p:cNvPicPr/>
          <p:nvPr/>
        </p:nvPicPr>
        <p:blipFill>
          <a:blip r:embed="rId1"/>
          <a:stretch/>
        </p:blipFill>
        <p:spPr>
          <a:xfrm>
            <a:off x="1805040" y="804960"/>
            <a:ext cx="5533920" cy="524808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2"/>
          <a:stretch/>
        </p:blipFill>
        <p:spPr>
          <a:xfrm>
            <a:off x="2340000" y="3645000"/>
            <a:ext cx="4537080" cy="4474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3"/>
          <a:stretch/>
        </p:blipFill>
        <p:spPr>
          <a:xfrm>
            <a:off x="2340000" y="4221000"/>
            <a:ext cx="4537080" cy="4478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4"/>
          <a:stretch/>
        </p:blipFill>
        <p:spPr>
          <a:xfrm>
            <a:off x="2340000" y="4840200"/>
            <a:ext cx="4537080" cy="4478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5"/>
          <a:stretch/>
        </p:blipFill>
        <p:spPr>
          <a:xfrm>
            <a:off x="2340000" y="5445000"/>
            <a:ext cx="4537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52360" y="716040"/>
            <a:ext cx="8639280" cy="59529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7726320" y="30830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7667640" y="4581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7667640" y="609300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59410" descr=""/>
          <p:cNvPicPr/>
          <p:nvPr/>
        </p:nvPicPr>
        <p:blipFill>
          <a:blip r:embed="rId1"/>
          <a:stretch/>
        </p:blipFill>
        <p:spPr>
          <a:xfrm>
            <a:off x="604800" y="2376360"/>
            <a:ext cx="7934400" cy="21052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2"/>
          <a:stretch/>
        </p:blipFill>
        <p:spPr>
          <a:xfrm>
            <a:off x="7380360" y="3141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3"/>
          <a:stretch/>
        </p:blipFill>
        <p:spPr>
          <a:xfrm>
            <a:off x="7380360" y="393372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8373" descr=""/>
          <p:cNvPicPr/>
          <p:nvPr/>
        </p:nvPicPr>
        <p:blipFill>
          <a:blip r:embed="rId1"/>
          <a:stretch/>
        </p:blipFill>
        <p:spPr>
          <a:xfrm>
            <a:off x="447840" y="1114560"/>
            <a:ext cx="8248320" cy="46288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2"/>
          <a:stretch/>
        </p:blipFill>
        <p:spPr>
          <a:xfrm>
            <a:off x="2484360" y="5157720"/>
            <a:ext cx="935280" cy="4478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3"/>
          <a:stretch/>
        </p:blipFill>
        <p:spPr>
          <a:xfrm>
            <a:off x="7093080" y="5157720"/>
            <a:ext cx="934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7352" descr=""/>
          <p:cNvPicPr/>
          <p:nvPr/>
        </p:nvPicPr>
        <p:blipFill>
          <a:blip r:embed="rId1"/>
          <a:stretch/>
        </p:blipFill>
        <p:spPr>
          <a:xfrm>
            <a:off x="476280" y="1433520"/>
            <a:ext cx="8191440" cy="39909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2195640" y="4826160"/>
            <a:ext cx="1081080" cy="4474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6804000" y="4840200"/>
            <a:ext cx="1081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6324" descr=""/>
          <p:cNvPicPr/>
          <p:nvPr/>
        </p:nvPicPr>
        <p:blipFill>
          <a:blip r:embed="rId1"/>
          <a:stretch/>
        </p:blipFill>
        <p:spPr>
          <a:xfrm>
            <a:off x="328680" y="774720"/>
            <a:ext cx="8486640" cy="603900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468360" y="3025800"/>
            <a:ext cx="828036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55300" descr=""/>
          <p:cNvPicPr/>
          <p:nvPr/>
        </p:nvPicPr>
        <p:blipFill>
          <a:blip r:embed="rId1"/>
          <a:stretch/>
        </p:blipFill>
        <p:spPr>
          <a:xfrm>
            <a:off x="523800" y="831960"/>
            <a:ext cx="8096400" cy="54766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2"/>
          <a:stretch/>
        </p:blipFill>
        <p:spPr>
          <a:xfrm>
            <a:off x="6300720" y="204480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3"/>
          <a:stretch/>
        </p:blipFill>
        <p:spPr>
          <a:xfrm>
            <a:off x="6156360" y="263700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4"/>
          <a:stretch/>
        </p:blipFill>
        <p:spPr>
          <a:xfrm>
            <a:off x="6227640" y="328464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5"/>
          <a:stretch/>
        </p:blipFill>
        <p:spPr>
          <a:xfrm>
            <a:off x="2700360" y="4869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6"/>
          <a:stretch/>
        </p:blipFill>
        <p:spPr>
          <a:xfrm>
            <a:off x="3924360" y="5300640"/>
            <a:ext cx="934920" cy="4478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7"/>
          <a:stretch/>
        </p:blipFill>
        <p:spPr>
          <a:xfrm>
            <a:off x="2627280" y="5734080"/>
            <a:ext cx="9349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4276" descr=""/>
          <p:cNvPicPr/>
          <p:nvPr/>
        </p:nvPicPr>
        <p:blipFill>
          <a:blip r:embed="rId1"/>
          <a:stretch/>
        </p:blipFill>
        <p:spPr>
          <a:xfrm>
            <a:off x="295200" y="957240"/>
            <a:ext cx="8553600" cy="49435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"/>
          <a:stretch/>
        </p:blipFill>
        <p:spPr>
          <a:xfrm>
            <a:off x="971640" y="3645000"/>
            <a:ext cx="7921440" cy="10792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826920" y="4869000"/>
            <a:ext cx="5905800" cy="4474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4"/>
          <a:stretch/>
        </p:blipFill>
        <p:spPr>
          <a:xfrm>
            <a:off x="826920" y="5459400"/>
            <a:ext cx="5905800" cy="447840"/>
          </a:xfrm>
          <a:prstGeom prst="rect">
            <a:avLst/>
          </a:prstGeom>
          <a:ln w="0">
            <a:noFill/>
          </a:ln>
        </p:spPr>
      </p:pic>
      <p:pic>
        <p:nvPicPr>
          <p:cNvPr id="948" name="图片 54281" descr=""/>
          <p:cNvPicPr/>
          <p:nvPr/>
        </p:nvPicPr>
        <p:blipFill>
          <a:blip r:embed="rId5"/>
          <a:stretch/>
        </p:blipFill>
        <p:spPr>
          <a:xfrm>
            <a:off x="1476360" y="1728720"/>
            <a:ext cx="3067200" cy="1828800"/>
          </a:xfrm>
          <a:prstGeom prst="rect">
            <a:avLst/>
          </a:prstGeom>
          <a:ln w="0">
            <a:noFill/>
          </a:ln>
        </p:spPr>
      </p:pic>
      <p:pic>
        <p:nvPicPr>
          <p:cNvPr id="949" name="图片 54282" descr=""/>
          <p:cNvPicPr/>
          <p:nvPr/>
        </p:nvPicPr>
        <p:blipFill>
          <a:blip r:embed="rId6"/>
          <a:stretch/>
        </p:blipFill>
        <p:spPr>
          <a:xfrm>
            <a:off x="5349960" y="1700280"/>
            <a:ext cx="277164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3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8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2231" descr=""/>
          <p:cNvPicPr/>
          <p:nvPr/>
        </p:nvPicPr>
        <p:blipFill>
          <a:blip r:embed="rId1"/>
          <a:stretch/>
        </p:blipFill>
        <p:spPr>
          <a:xfrm>
            <a:off x="309600" y="838080"/>
            <a:ext cx="8524800" cy="56865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2"/>
          <a:stretch/>
        </p:blipFill>
        <p:spPr>
          <a:xfrm>
            <a:off x="1116000" y="4264200"/>
            <a:ext cx="5184720" cy="4474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"/>
          <a:stretch/>
        </p:blipFill>
        <p:spPr>
          <a:xfrm>
            <a:off x="1116000" y="4854600"/>
            <a:ext cx="5184720" cy="4474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4"/>
          <a:stretch/>
        </p:blipFill>
        <p:spPr>
          <a:xfrm>
            <a:off x="1116000" y="5516640"/>
            <a:ext cx="5184720" cy="4474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5"/>
          <a:stretch/>
        </p:blipFill>
        <p:spPr>
          <a:xfrm>
            <a:off x="1116000" y="6064200"/>
            <a:ext cx="5184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8:30:30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